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9706002"/>
        <c:axId val="37130064"/>
      </c:barChart>
      <c:catAx>
        <c:axId val="1970600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7130064"/>
        <c:crosses val="autoZero"/>
        <c:auto val="1"/>
        <c:lblAlgn val="ctr"/>
        <c:lblOffset val="100"/>
        <c:noMultiLvlLbl val="0"/>
      </c:catAx>
      <c:valAx>
        <c:axId val="3713006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970600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C3F9-0994-457E-8987-2096800A0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11800-1A62-479C-93F7-CD9C1F82A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E2CF1-3730-43E0-B1B3-E7CB50453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F2B4D-0E4C-45BE-9CA4-CAF4C21D8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B4257-7E1C-42C2-B267-165C37D2B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424D5-5F8C-4373-806D-2825492A7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307C9-1493-4576-97FA-20C7CE626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E23B2-ACD4-43F1-833C-14F9DFB60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3954F-BEA1-460A-BA78-CA6ED155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1320F-F32F-40F2-BA9B-D172FC9F3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C94FA-1324-4741-A659-C11E3E650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BB2E-D537-4075-9A0D-643C96D5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EC8FA-026F-4B12-A598-F1F8B833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305D4-EB26-47D8-AF87-99B214BCA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4762F-5E88-4C75-80FB-7D6CC8C84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6E162-BC97-4101-AF75-C0DE8577E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0FF4B-ACC0-436B-B501-CB3C3FB04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1CDE-5920-43A1-ACB8-272B5C0C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A2A1-16FB-4F7A-AB66-61C3DA83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BA59-D497-4481-9820-D15C4AC0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E72E-256E-4C43-8D04-BCFDE60E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B7C3B-7A5A-4A4E-97F1-5D70DCBF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433C-E215-4395-8D8A-574EF99A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A903-AB6B-454C-B8D9-7897312F2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26689-22D6-455C-99DF-0E52658125A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E6893-4661-4E3C-8D86-1F94D255FAA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