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670450"/>
        <c:axId val="64669825"/>
      </c:barChart>
      <c:catAx>
        <c:axId val="967045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4669825"/>
        <c:crosses val="autoZero"/>
        <c:auto val="1"/>
        <c:lblAlgn val="ctr"/>
        <c:lblOffset val="100"/>
        <c:noMultiLvlLbl val="0"/>
      </c:catAx>
      <c:valAx>
        <c:axId val="6466982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67045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0537E-45FE-4E22-853E-552E163C2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8061-5544-46C4-844F-7552CCD18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2A065-D1F7-4103-A5C8-451C3BFC5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D41C5-8BB3-4B2F-9E5D-8DC288BA5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97213-F0B8-40EB-8052-11DB6354B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D3EA9-93F9-4535-A8E3-88E118237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2902F-61C5-4023-8E21-454CD26F9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65880-CABE-417F-99E1-1E82E5E5C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64956-87E2-4BAC-B4ED-31CF5EB85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ABA62-FF0E-423D-ACBD-94C885D7A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93CBB-25C9-46F4-9263-3131FD0AD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4FDE-9387-4108-88B1-8CA6D2D5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0E694-672C-46EE-B0A5-B72525977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21F03-BBAA-4A85-B033-9E21B336C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B2B7E-BEAB-4FDD-8427-A68D1927A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0D0E8-A6B1-420A-B985-E0A64634D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08F72-1783-4559-AF29-0E3F16A0C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4C78-DD20-44A1-9971-EFE2816D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7B7BC-F830-4146-A611-C73587035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6CA6E-4F11-4B60-A5F3-9A39CDF3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CEBFA-9F7A-4DC4-B863-0CEEC60C9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775B-120C-44FF-9D66-F6A75641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E25C-A926-4955-AB10-9EB6C1642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663A-14C0-4A3D-BB59-87A20B257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0A4D5-EE7E-40B6-9C69-A2B03B422A3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9A5DB-B6F0-4E86-BBE0-9CF0AAC4276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