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44785417"/>
        <c:axId val="44958592"/>
      </c:barChart>
      <c:catAx>
        <c:axId val="4478541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4958592"/>
        <c:crosses val="autoZero"/>
        <c:auto val="1"/>
        <c:lblAlgn val="ctr"/>
        <c:lblOffset val="100"/>
        <c:noMultiLvlLbl val="0"/>
      </c:catAx>
      <c:valAx>
        <c:axId val="4495859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478541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03446-336B-4297-9B54-C05DE0B64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D37E-4638-41F5-8606-8243CF6D9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49F11-674B-4858-B337-4D697413B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AF0FE-34A3-40A3-89AD-70EFFAF99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257BE-CFFB-474F-974A-9855CBDA8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9C247-B852-41BD-8923-99AAAE3E1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C721E-A941-46D6-81BE-DB6D11BA2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49B45-0433-414A-AE86-FFEFE2AA0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5899E-ADA5-4FD5-B5EA-DCEBAE2D7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81531-B096-457A-A256-787542D02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76B67-AF9D-463F-8F7C-7BE6030AE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498E6-35D8-4F1C-8E19-2FD3136CA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FA63D-EB24-4205-836A-C9626CFE5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D7CD5-177E-4819-9680-D14DF29CC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94434-8EEE-4706-B685-DC9E68A8A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5074C-D244-4C86-BBA4-EC741F3D3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68028-0592-40CF-B3DD-F29048E5A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73C69-2DE0-4A48-B77D-8B925536C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94811-2397-44C5-B72C-B98A0E8E6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DACA-6056-4640-9D47-5B7099081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1FFE8-14C8-4872-9C51-7E7686089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16142-04C5-45B2-A312-78E34A64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294E-88C3-4BFE-B77E-2DECA2D4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853F5-2B78-4766-948E-486606E1A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F22AC-51F3-4755-9C9B-F336D7CC4F3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247BB-3453-4363-AA5C-5167CB26D11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