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6975441"/>
        <c:axId val="11825567"/>
      </c:barChart>
      <c:catAx>
        <c:axId val="5697544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1825567"/>
        <c:crosses val="autoZero"/>
        <c:auto val="1"/>
        <c:lblAlgn val="ctr"/>
        <c:lblOffset val="100"/>
        <c:noMultiLvlLbl val="0"/>
      </c:catAx>
      <c:valAx>
        <c:axId val="1182556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697544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2604D-4604-4561-9355-823CE42A6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B9F2-EF64-4B93-B6DC-47D0942D7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AE4BE-B353-4839-8A7B-12ADBF3E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6BB1B-C23F-4208-9BFF-4A638D529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0E942-8C56-46D9-A9FE-483FC819C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B332C-03D5-4C9F-80D2-5A1BF5618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5A65B-7A4E-441F-9007-23B471780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A9745-31DD-45B5-938A-EC7D1814C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2C69-8F6B-4025-A6FD-78BF892B5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FD674-0E84-4F23-B167-C536541EA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0C8FD-AB52-4E8C-A8AA-CE73DC65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227A-BBF3-4E4D-B108-A01E729B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5EDC3-A385-4003-AA82-0AD19CBD6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97837-8A72-4479-8A75-6D9DFDE4F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D8DFF-0CE1-4365-BD18-97EB6B556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5AEF6-1F59-416F-8686-D5647433B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31B12-77F8-4A00-BADF-A06E3521C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49B3F-8235-4065-A3D7-6EFDE27E1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B7009-B10D-48BA-B841-719AA2726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07A5D-C678-4086-AB79-F2822D02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8FE4-8143-4ABD-860E-60B00A92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017B-E00C-4595-8F05-1CD2D7C9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D1EE-5543-4861-B25F-3F681B92B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94A3-D309-4FFE-A16F-D0AC03B1A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9045D-7BB5-4A4C-B5AF-84103144EF8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ECDB4-967C-4DE2-9D2D-1484D56489D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