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1257636"/>
        <c:axId val="79825690"/>
      </c:barChart>
      <c:catAx>
        <c:axId val="6125763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9825690"/>
        <c:crosses val="autoZero"/>
        <c:auto val="1"/>
        <c:lblAlgn val="ctr"/>
        <c:lblOffset val="100"/>
        <c:noMultiLvlLbl val="0"/>
      </c:catAx>
      <c:valAx>
        <c:axId val="79825690"/>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125763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EA323-B1FA-46FD-9556-047A9D3AA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49A84-5FF1-4BC0-88D1-6EBC889B1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EF780-FEF1-409D-BBAF-4BDAA5D18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3A636-4753-4978-A622-BE789AA5A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0BE90-D00F-4DFF-B9F4-1BE1D3DAC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5A0E2-440B-4534-8BE6-F7953BE18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E2CFF-A9F0-49C1-81B9-B8D314075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ED923-455A-42D9-936C-36D6B693E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23E64F-38DE-4531-B685-180BA3D17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AEFA2-3BB9-40C1-9093-65935A989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B7229-636F-47AC-8D91-55BA614E8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413F8-8442-42C5-86A8-F5952B781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FDDA4-DA69-4922-9D59-8CFB7AEFE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A7F6B-40B5-4677-BCC0-545554EC7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B276F-08EA-4011-86D5-8F7668A93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F2F88-ED8E-4B61-94B5-69FB256AC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DB9B5-4592-4EDC-B311-3A51B0F97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35C3F-CE95-4852-9E9A-D1B9F3EC0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5269A-4DEB-42A0-B30A-66F49AFD6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5E51D-77F3-4EFC-897F-A771EB8D7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A662A-08AB-447E-8BB7-355C6C20B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89C96-DDBD-4298-A111-9115AEBDC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2759-E530-490B-904B-7692661ED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F71DE-72A9-461E-8C0F-BC9A51E33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B0F417-997F-47CD-B6D5-E1137CC2E4D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742D06-91E8-4FCC-A65A-907CC5D8405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