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1428585"/>
        <c:axId val="31087497"/>
      </c:barChart>
      <c:catAx>
        <c:axId val="71428585"/>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1087497"/>
        <c:crosses val="autoZero"/>
        <c:auto val="1"/>
        <c:lblAlgn val="ctr"/>
        <c:lblOffset val="100"/>
        <c:noMultiLvlLbl val="0"/>
      </c:catAx>
      <c:valAx>
        <c:axId val="3108749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142858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BE3E7E-42C8-4A2B-BD6F-FBED13098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C490B-526B-4A6A-A86F-CBB7BCFD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CDDE6-B6D8-4072-9676-B00C65D80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68DE4-5A92-4F99-B58F-BDDFC4483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1CFF0-AE31-4988-A2A7-0BF4CFD56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D82AF-D4DC-4DF3-91BB-D596BDBF6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CCE58-4F3E-4936-819B-5BF68DB33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ECFC1-59A9-44F1-8676-168DFFE0A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654FC-EBFC-4141-B7F6-6C0C3BD60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32BF4-D4B7-432A-845E-1E34F0D41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2D4B-BAD0-4B52-8148-10C76B2A6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554F6-AFC2-49A5-B88B-686BA6FFE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F4E89-96AF-4FDE-9695-ACA901218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06634-6A5A-4843-B0B5-69EEC4A22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613F1-7BE7-42E3-AB8B-852AF2979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6EF7E-148F-4FC7-BA40-843948A3E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C6268-3D0A-407D-9FEC-E41C58382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62CBF-3D58-40E5-9167-7CE3AE525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D2F51-9531-4C7E-B1F7-5EBAB15D2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8A27E-7273-4131-9C1C-E8ACB447D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B9E0B-EB64-40DE-B623-7CFE9CF3A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F7D5-1784-4432-8CE5-65DFC957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F5AE-D78E-41F4-98B9-5CDB0993E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C3591-5B30-44EA-ADA8-D933A777E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13A71-1DC5-4835-A8FD-40E5726AB62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59411F-EBB6-4897-BE13-23D0BD1CC89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