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1921515"/>
        <c:axId val="84538743"/>
      </c:barChart>
      <c:catAx>
        <c:axId val="5192151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4538743"/>
        <c:crosses val="autoZero"/>
        <c:auto val="1"/>
        <c:lblAlgn val="ctr"/>
        <c:lblOffset val="100"/>
        <c:noMultiLvlLbl val="0"/>
      </c:catAx>
      <c:valAx>
        <c:axId val="8453874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192151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907A-6148-4E97-B017-08CDBAA30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026C-7EC7-4B1A-B05A-FB2B7250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C64B8-6841-457D-86F7-EF6DCE92B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E6B6D-BEBA-4BB7-B08F-480C69182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4E62A-D0F8-44DE-9161-5AAA5C948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D56D3-766D-444A-86ED-AC7178547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C9138-13EA-4C15-9A6E-118689B29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D378-01B7-417D-BFD3-B73DA52E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33F9F-2A77-4196-A0DE-FC8A3806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90CC6-5B8D-4958-A8B5-D51B3B21F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6427-AF2E-435B-B6EE-614859F1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F540-6106-417F-AA8E-49C125746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37712-5802-4A8E-9824-CB6C980B9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E3F50-B69B-421C-8EAC-5F7223ED0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FE277-74F8-4224-9E74-6961EFA0E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B804A-260C-4BFF-A19F-D31E421B1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ABCBD-81FF-486A-9E3A-F329FCA6A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7019-BB09-4A7F-B99F-5FA608A9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8166-0B7F-48B5-8B35-066D805A9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4749-2D74-414D-914B-F2EEE878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7BB6-9EF3-44BD-A5E5-FF7549F2D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3FBC-B126-4FE3-85E7-780BFACB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232D-7E2B-46F8-95EB-220086A4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0FCB-13C2-4E41-A3B0-2B36583CB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92486-AECD-41F8-BBF8-EA8F02868B6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59A7C-9327-4AB8-8FAF-66884319F01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