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4238900"/>
        <c:axId val="82401471"/>
      </c:barChart>
      <c:catAx>
        <c:axId val="74238900"/>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2401471"/>
        <c:crosses val="autoZero"/>
        <c:auto val="1"/>
        <c:lblAlgn val="ctr"/>
        <c:lblOffset val="100"/>
        <c:noMultiLvlLbl val="0"/>
      </c:catAx>
      <c:valAx>
        <c:axId val="8240147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4238900"/>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04C5B-734D-49F9-9714-E625CFC13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DA457-CB54-48CF-8B59-D0CA5D89C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3DD71-E491-4126-8887-D630A8B17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F7A81-5EC1-455E-8DD1-8EBAA551B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E27B1-387A-48B5-8297-6398D9802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EA0F4-CEE0-46AF-8243-0B1A47501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3C03A-0460-461C-A10A-79BB8D7210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28A81-238C-48EB-866C-72E96813A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513F3-0466-41A7-AD8F-4685F57EF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94F2E-FA5D-43E4-9974-CCDD9856D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A0E27-846F-464E-B35D-F8593F0B5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FB7EF-E6DA-4CAA-88C9-1050C43B2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FB1AC-1AE8-4734-B95C-61C1232BE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AA300-0084-4426-9AD1-1D14ABF9A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7EED3-7467-442E-81CD-7BA9A9E68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03F19-FE52-4282-8887-DA7AC186C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13922D-96F4-4A21-B63E-1FB7605E66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3DA8E-2ECB-4094-9905-5F2C387D6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717A8-F317-4AB8-9AC3-2355C158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C713E-3695-4620-9214-A10B65A11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3DEB2-18CC-49B7-8256-D7E049A8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919E-58B3-4C92-A71E-917A743FB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890E-4260-4870-A3CA-7AFEB640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9CB1-398E-4ECE-9C8E-919417A82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68524-DB0B-4E03-AF76-849E5C93247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E181E5-40A3-4E81-A5EE-9F3E22D959E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