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5279933"/>
        <c:axId val="52083819"/>
      </c:barChart>
      <c:catAx>
        <c:axId val="65279933"/>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2083819"/>
        <c:crosses val="autoZero"/>
        <c:auto val="1"/>
        <c:lblAlgn val="ctr"/>
        <c:lblOffset val="100"/>
        <c:noMultiLvlLbl val="0"/>
      </c:catAx>
      <c:valAx>
        <c:axId val="5208381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5279933"/>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735A8-EDFF-45AC-9B0A-0C4096B31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096EF-03FB-4AF9-AE2A-3D0B198A3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98443-4C45-41D4-96A4-702B10D21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68A9B-061A-4CA6-B659-F755759E8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3AEE9-E37A-416C-A307-544813781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05E41-DA45-4F77-BACF-BF7D9D859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5BADB-6C03-4758-BC99-FF0102303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6C776-84FF-4A2F-AD0F-2D49A6877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22589-07FA-474B-A2F7-77DEABE87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245D1-F04D-48D8-A3B6-FE37087FE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F64FC-A55A-4CE3-8AD8-289D24AA6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4CFAC-9CCA-4C4F-9458-96A0BD726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10213-A0D5-4A7E-96B3-703C8BFD9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08F1C-E2FD-4886-B1F3-B2B2373DD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E8C97-D5D5-412E-A6E2-A406FDE17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18FD6-266D-456F-9918-1148CD732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3ACE1-2E30-41C3-B9A8-0042DFF61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85983-4812-4736-95DF-D5E9332CD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994C7-AE8B-4A03-AD1B-D7EBCDF1D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7C39E-6A9D-4BBE-92D2-6727DDA94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FFC47-AE6C-4B75-8AC2-451B6873E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7A3E6-D923-4148-A4F1-932AEB08E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1346-7921-4D8F-96C2-9C1A6E7B0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56B68-F9FC-4958-A763-54108BBC0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9281F3-C04D-469E-AB8F-25B1A21904C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8240F9-B539-4A29-AE80-DCD8C2E22E9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