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10418880"/>
        <c:axId val="43244909"/>
      </c:barChart>
      <c:catAx>
        <c:axId val="10418880"/>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3244909"/>
        <c:crosses val="autoZero"/>
        <c:auto val="1"/>
        <c:lblAlgn val="ctr"/>
        <c:lblOffset val="100"/>
        <c:noMultiLvlLbl val="0"/>
      </c:catAx>
      <c:valAx>
        <c:axId val="4324490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0418880"/>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511C6-7EBD-42E5-9F48-0B88EDFCB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AD029-097C-454C-8E00-35233649C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959CF-EDDA-4A92-9F24-679C759A8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AB39B-D769-4A51-9143-130C20701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51AC8-2AA5-4145-9BA4-48E25DD72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B80C5-11B4-40B5-B079-B99A56DA5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165C9-3786-4490-A87B-DC16D270F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0548D-3FE0-4678-8D76-9FFC941D2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CAEAD-585F-462B-A5A2-0785B9298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64C7A-7D12-46EC-A096-1F1596A29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620BE-1578-4D50-95EE-08B5CFD1D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8EF22-6AB6-4034-813A-5FA887F28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795FF-252E-48D2-9703-96899548D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1A649-5351-44B3-AFC1-6C73F48A5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869E4-28A8-4F66-8959-59E39FC7D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E083B-3FC2-413E-ABD4-09E962C0D1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54D3E-5597-4395-ADF2-87F6CD20A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3F435-4091-4774-AAD1-41CC25F2F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C05D9-FB1F-437C-8339-BE2C0317D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A7E10-CDE6-4917-B0D9-71E7BF3F0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519C8-A345-457E-8902-87E435D9B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1C510-41AA-48EE-ACDE-E6589D5D2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F97E2-8324-44FA-95E2-434011E6D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62F73-00D4-48F1-9129-DEE5F5EE3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D4B595-0147-48D9-B84A-E2F0628BCE5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022B0B-6873-4D32-8B14-B32E0E8135E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